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3FB-7023-43F1-8D45-705DB539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F8D-BA86-4137-94AA-76C6581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8D6-B550-458D-837C-3F7A0096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EFD-5868-4D5A-BCB2-53869E3B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81F-F587-4645-A6F8-B11D6E9E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18C-65C6-45F3-AC48-B629213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341-05DC-4745-B888-0C2AC8EE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E1C-BFFF-45FE-9A80-1646B78D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78F-9F71-43FA-A376-22D954F5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EDE-1703-4F12-9E96-0253C49C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D01-4216-42AB-8A1F-725F7B17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8B7-075C-4931-A448-AB941D1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F8D-E72B-491B-BBD7-E70CBFA61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oal 3.01/3.0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Interpretations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trix G shows the number of students at a gym in the year 2000. Matrix M shows the number of students at the same gym in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0282" t="1829" r="0" b="0"/>
          <a:stretch/>
        </p:blipFill>
        <p:spPr>
          <a:xfrm>
            <a:off x="228600" y="2286000"/>
            <a:ext cx="8686800" cy="182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41911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matrix that represents the change from 2000 to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atrices Basics: Dim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mensions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ws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the dimensions of the following mat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09480" y="4114800"/>
                <a:ext cx="1524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859120" y="3797280"/>
                <a:ext cx="18255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629400" y="3886200"/>
                <a:ext cx="1314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70560" y="4038480"/>
                <a:ext cx="563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f matrix M equals matrix N, find the values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, b,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09680" y="1981080"/>
                <a:ext cx="44960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e the following matrices to perform the necessary oper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24280" y="1666800"/>
                <a:ext cx="1676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6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14600" y="1676520"/>
                <a:ext cx="167652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</m:e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7200" y="1676520"/>
                <a:ext cx="167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84880" y="1676520"/>
                <a:ext cx="10224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181480" y="3505320"/>
                <a:ext cx="7225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3520" y="3745080"/>
                <a:ext cx="144756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e the following matrices to perform the necessary oper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724280" y="1666800"/>
                <a:ext cx="1676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6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514600" y="1676520"/>
                <a:ext cx="167652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</m:e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" y="1676520"/>
                <a:ext cx="167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184880" y="1676520"/>
                <a:ext cx="10224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91120" y="3505320"/>
                <a:ext cx="1552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04920" y="3429000"/>
                <a:ext cx="2133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yearly sales of belts, hats, pants and shirts at a local store over three yea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item shows a decrease in yearly sales from Year 1 to Year 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2133720"/>
          <a:ext cx="7543800" cy="27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5438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number of pastries sold at HotCakes Café after one weeken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648320"/>
            <a:ext cx="8382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at are the dimensions of the matrix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ich day were the least number of pastries sol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95280" y="2057400"/>
          <a:ext cx="5639040" cy="207000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number of pastries sold at HotCakes Café after one week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8098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at percent of Friday’s sales were browni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95280" y="1523880"/>
          <a:ext cx="5639040" cy="207000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HotCakes Café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35268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t Hastie’s Pastries, they sold half as many pastries Friday, triple as many pastries Saturday, and a fourth of each pastry on Sunday.  Create a matrix that represents Hastie’s Pastri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71600" y="990720"/>
          <a:ext cx="5638680" cy="2070000"/>
        </p:xfrm>
        <a:graphic>
          <a:graphicData uri="http://schemas.openxmlformats.org/drawingml/2006/table">
            <a:tbl>
              <a:tblPr/>
              <a:tblGrid>
                <a:gridCol w="194292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3:03:18Z</dcterms:created>
  <dc:creator>Sharon Fieldman</dc:creator>
  <dc:description/>
  <dc:language>en-US</dc:language>
  <cp:lastModifiedBy>Sharon Fieldman</cp:lastModifiedBy>
  <dcterms:modified xsi:type="dcterms:W3CDTF">2010-12-10T19:12:10Z</dcterms:modified>
  <cp:revision>25</cp:revision>
  <dc:subject/>
  <dc:title>Goal 3.01/3.02 Matrices (Yay!)</dc:title>
</cp:coreProperties>
</file>